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2F4-3FE4-4F29-9050-AFE507CD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A02-51C5-4EE2-A392-D1FB725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30D-3986-4320-B1FE-0384D29E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CD2-EB17-4D7B-8159-4689D9E3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04D-6202-4705-817A-ECA2341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6B7F-8561-4BA3-A825-C313C6E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AD00-1403-4282-A92C-7E9D6FB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C96B-F871-4586-AEEC-7595DCF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EC37-23A9-4A68-8B63-70EA299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6C7-4EE2-479A-96D9-AC6D7CD6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03ED-8B14-4669-9B1B-C308ABB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059-F7A5-4139-9428-F7761780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4DAB-BECB-4C75-BFCB-8B5FB83D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9A4A-C6CB-48CB-A97A-D238766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0CD-8872-47C9-8CC8-11DD031A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FD59-FB74-4179-AA49-BE13D0B9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A64C-FDF9-4E9A-A910-B96015DF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417-8C10-4578-A767-0D2F710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FC5-DF48-495F-9CC1-35A7FC5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516-3E11-4B44-82A6-24ED39B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49B-898F-4D4F-9684-F6D5940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D09-9B5C-498C-98FD-08D062C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044-73EB-4E13-9336-E318BFC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F80-1775-4EC2-A4EC-6627BD8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48C-613C-4EDF-8494-14CF1C4448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3640" cy="1413000"/>
            <a:chOff x="0" y="0"/>
            <a:chExt cx="9143640" cy="1413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3640" cy="141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41300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0" cy="1413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3640" y="0"/>
              <a:ext cx="0" cy="1413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35640" y="260280"/>
            <a:ext cx="340344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6F3-9D16-4494-BEF1-0334FB34D2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14907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c ADVANCED PRACTICE (HEALTH &amp; SOCIAL C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637000"/>
            <a:ext cx="77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ollaboration betwe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eater Manchester Strategic Health Authority (as part of its Delivering the Workforce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eater Manchester NHS Tru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Bol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y of Sal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 NHS Organisations e.g. G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ial Care organis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Evaluation Evidence and Prac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55640" y="2133720"/>
          <a:ext cx="7920000" cy="4467240"/>
        </p:xfrm>
        <a:graphic>
          <a:graphicData uri="http://schemas.openxmlformats.org/drawingml/2006/table">
            <a:tbl>
              <a:tblPr/>
              <a:tblGrid>
                <a:gridCol w="3311640"/>
                <a:gridCol w="460836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 appraisal of the evidence base behind literature and practice relevant to your field of practic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aise the evidence base on delivery of care in your area of practice, drawing on a wide range of data, including influential guidelines (e.g. National Service Frameworks) and legal principles, and integrate your findings into care desig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ing &amp; developing a body of evidence relevant to your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aise different interventions for patients in specific situations, and appropriately apply the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quing and developing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lenge current approaches to recognising patterns of illness and injury in clients with complex care needs, proposing and designing new metho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9992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Advanced  Pract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4360" y="2492280"/>
          <a:ext cx="8002440" cy="3789360"/>
        </p:xfrm>
        <a:graphic>
          <a:graphicData uri="http://schemas.openxmlformats.org/drawingml/2006/table">
            <a:tbl>
              <a:tblPr/>
              <a:tblGrid>
                <a:gridCol w="2735280"/>
                <a:gridCol w="526716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ltation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or refine approaches to identifying clients in ill health states  and apply these effectively in practic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 of health and social nee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ppraise existing tools, or design new tools, to enable a comprehensive, systematic and accurate assessment of the physical, psychological, social and spiritual needs of a client in your area of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 decision 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expert consultancy on symptom control and management of clients with complex care need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LECTIVE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Health and Health Promotion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listic approach in the Primary care context. Public health and health promotion, working with individuals, families and the commun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of Clinical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competence in a chosen area, to enhance care and programme management. The area chosen determined by an NSF framework, or equivalent e.g. Diabetes, Palliative Care, Respiratory Care or Coronary Heart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gotiated Learnin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lows learner to define, develop and demonstrate specific learning on an aspect of their r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1557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Dissertation/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1989000"/>
          <a:ext cx="8362800" cy="4754880"/>
        </p:xfrm>
        <a:graphic>
          <a:graphicData uri="http://schemas.openxmlformats.org/drawingml/2006/table">
            <a:tbl>
              <a:tblPr/>
              <a:tblGrid>
                <a:gridCol w="4751280"/>
                <a:gridCol w="3611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ppraise and present evidence and theory from differing perspecti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 the boundaries of practice by making properly considered decisions to identify the level of responsibility and risk taking involved in A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 in the development of inter-professional, inter-agency working to facilitate care pathways for vulnerable client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 in developments within own sphere of practice on a regional or national ba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nalyse evidence and anticipate the direction in which your practice will progres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knowledge availabl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ulate proposals for the utilisation of knowledge for practice and or service development within your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analyse how knowledge may be transferred, utilised and transfor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reflect on yours and others role  in facilitating and evaluating outco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ically evaluate the organisational and other contextual factors that contribute to innovation and how you can work with others to enhance service prov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87280" y="1700280"/>
            <a:ext cx="6553440" cy="4465440"/>
          </a:xfrm>
          <a:prstGeom prst="ellipse">
            <a:avLst/>
          </a:prstGeom>
          <a:solidFill>
            <a:srgbClr val="0082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1989000"/>
            <a:ext cx="4114800" cy="2667240"/>
          </a:xfrm>
          <a:prstGeom prst="ellipse">
            <a:avLst/>
          </a:prstGeom>
          <a:solidFill>
            <a:srgbClr val="0082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16080" y="3141720"/>
            <a:ext cx="288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Advanced Practitio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4724280"/>
            <a:ext cx="20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rning Facilit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2205000"/>
            <a:ext cx="1676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c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157720"/>
            <a:ext cx="3063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ducation Collaborati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63800" y="3790800"/>
            <a:ext cx="1523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2600" y="3790800"/>
            <a:ext cx="14479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ss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9800" y="3575160"/>
            <a:ext cx="22860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60680" y="3519000"/>
            <a:ext cx="177840" cy="327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73280" y="4151160"/>
            <a:ext cx="2286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49440" y="4078440"/>
            <a:ext cx="152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87680" y="35020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87680" y="2637000"/>
            <a:ext cx="76320" cy="504720"/>
          </a:xfrm>
          <a:prstGeom prst="downArrow">
            <a:avLst>
              <a:gd name="adj1" fmla="val 50000"/>
              <a:gd name="adj2" fmla="val 16533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9920" y="2854440"/>
            <a:ext cx="1143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I Student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3320" y="2925720"/>
            <a:ext cx="108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Quality Assurance Agency for Higher Education defines a masters degree in the following te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of the study is at, or informed by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forefro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n academic or professional discipline. Students will have shown originality in the application of knowledge, and they will understand how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oundari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knowledge are advanced through research. They will be able to deal wit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lex issues both systematically and creatively, and they will show origin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ckling and solving problem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ill have the qualities needed for employment in circumstances requiring sound judgement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rsonal responsibility and initiative, in complex and unpredictable professional environm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dvanced Practitioner role works with lots of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undaries’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reas of knowledge, practice, roles and across organis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Arial"/>
              </a:rPr>
              <a:t>Advanced Practitioner – potential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Potential Rol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Out of hours servic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Emergency GP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Acute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Walk in Cen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matrons/active case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Non medical treatme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Treatment centres –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Diagnostic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adi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Community services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Pharmacy one stop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Diagnostic care and trea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Outcome driven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Performance management targ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European working time direc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Modernising medical care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Maintaining services – shortage of G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b46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mproving or expanding current services e.g. tier two in community [chronic disea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vanced practitioner who has highly specialised or highly developed knowledge and skills beyond those which are required for registration, encompassing the breadth and depth of current and future professional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740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IST ADVANCED PRACTITI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 Advanced Practice (Health &amp; Social C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 work ba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ly tailored to practitioner role and assessment of competencies and a development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placed mentor &amp; ass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profe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in practice by University employed Learning Facilit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DIM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(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y driven with links to personal/professional development planning, portfolio development and achievement of core compet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practice forms the continuum from practitioner to emergent consul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. 2000 The NHS Plan,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622080" y="1495080"/>
            <a:ext cx="7507800" cy="4511880"/>
            <a:chOff x="622080" y="1495080"/>
            <a:chExt cx="7507800" cy="4511880"/>
          </a:xfrm>
        </p:grpSpPr>
        <p:sp>
          <p:nvSpPr>
            <p:cNvPr id="174" name=""/>
            <p:cNvSpPr/>
            <p:nvPr/>
          </p:nvSpPr>
          <p:spPr>
            <a:xfrm>
              <a:off x="2922840" y="2356920"/>
              <a:ext cx="126324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inciples of Advanced Practic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22840" y="3048120"/>
              <a:ext cx="1216440" cy="75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ritical Evaluation and Review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6840" y="3048120"/>
              <a:ext cx="12643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naging Clinical Car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16840" y="2356920"/>
              <a:ext cx="12060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blic Health &amp; Health Promotion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85360" y="149508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4640" y="1512720"/>
              <a:ext cx="182484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2+ summer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5160" y="149508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16360" y="1512720"/>
              <a:ext cx="109476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mester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57120" y="3794400"/>
              <a:ext cx="5169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3920" y="4311720"/>
              <a:ext cx="442728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undations of Advanced Practice (4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27400" y="3565080"/>
              <a:ext cx="127296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pplication of Life Sciences for Advanced Practice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8840" y="4082400"/>
              <a:ext cx="121644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earch Dissertation (6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5160" y="3565080"/>
              <a:ext cx="97812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gotiated/ independent learning (20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3200" y="396648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27400" y="465624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5640" y="4656240"/>
              <a:ext cx="425520" cy="182160"/>
            </a:xfrm>
            <a:prstGeom prst="rightArrow">
              <a:avLst>
                <a:gd name="adj1" fmla="val 50000"/>
                <a:gd name="adj2" fmla="val 58399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7640" y="4368600"/>
              <a:ext cx="7459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uc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9172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81520" y="161100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164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2520" y="166752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3200" y="195552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5520" y="505944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5080" y="195552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52200" y="505944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3200" y="5059440"/>
              <a:ext cx="5752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45280" y="503424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2200" y="1611000"/>
              <a:ext cx="0" cy="390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05040" y="2012400"/>
              <a:ext cx="5169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080" y="2012400"/>
              <a:ext cx="225360" cy="172080"/>
            </a:xfrm>
            <a:prstGeom prst="rightArrow">
              <a:avLst>
                <a:gd name="adj1" fmla="val 50000"/>
                <a:gd name="adj2" fmla="val 32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0400" y="5117400"/>
              <a:ext cx="225360" cy="172080"/>
            </a:xfrm>
            <a:prstGeom prst="rightArrow">
              <a:avLst>
                <a:gd name="adj1" fmla="val 50000"/>
                <a:gd name="adj2" fmla="val 32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2280" y="5634720"/>
              <a:ext cx="80496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e modul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31360" y="5634720"/>
              <a:ext cx="574200" cy="22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480" y="1956600"/>
              <a:ext cx="135288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77000" y="503424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60720" y="1956600"/>
              <a:ext cx="1352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Arial"/>
                </a:rPr>
                <a:t>Summer  + Sep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ndations of Advanced 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42920" y="2708280"/>
          <a:ext cx="7643880" cy="3600360"/>
        </p:xfrm>
        <a:graphic>
          <a:graphicData uri="http://schemas.openxmlformats.org/drawingml/2006/table">
            <a:tbl>
              <a:tblPr/>
              <a:tblGrid>
                <a:gridCol w="3313080"/>
                <a:gridCol w="433080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 and evidence the characteristics of an Advanced Practitioner in your con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expert in reflective, intuitive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nstrate reflective practice through the development of a progressive portfolio of evidence of your professional practice that depicts an Advanced Practitioner fun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your own sphere of pract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 towards the specific desired service outcomes relevant to their con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 the boundaries of practice by making properly considered decisions to identify the level of responsibility and risk taking involved in Advanced Practice ro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of Life Science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2781360"/>
          <a:ext cx="8147160" cy="2921040"/>
        </p:xfrm>
        <a:graphic>
          <a:graphicData uri="http://schemas.openxmlformats.org/drawingml/2006/table">
            <a:tbl>
              <a:tblPr/>
              <a:tblGrid>
                <a:gridCol w="2664000"/>
                <a:gridCol w="5483160"/>
              </a:tblGrid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0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vant life sci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y advanced knowledge of pathophysiology to differentiate disease proces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y extensive knowledge of anatomy, physiology and psychology to differentiate a wide range of patient presentations with complex care needs, to determine the appropriate diagno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b46d0"/>
                </a:solidFill>
                <a:latin typeface="Arial"/>
              </a:rPr>
              <a:t>Definition of generalist &amp;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b46d0"/>
                </a:solidFill>
                <a:uFillTx/>
                <a:latin typeface="Arial"/>
              </a:rPr>
              <a:t>Specialist</a:t>
            </a: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 – someone who is trained in a particular branch of a pro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b46d0"/>
                </a:solidFill>
                <a:uFillTx/>
                <a:latin typeface="Arial"/>
              </a:rPr>
              <a:t>Generalist</a:t>
            </a: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 – someone who is competent in several different fields or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53640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Advanced Practitioners – Agenda for Change</a:t>
            </a:r>
            <a:r>
              <a:rPr b="1" lang="en-US" sz="2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5257800"/>
            <a:ext cx="4572000" cy="6094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Practiti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124080"/>
            <a:ext cx="3276360" cy="16765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Generali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Competencies in sev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fields from acr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ifferent prof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200400"/>
            <a:ext cx="3276360" cy="16765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Specialist skills with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wn prof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905120"/>
            <a:ext cx="327636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ultant Gener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1905120"/>
            <a:ext cx="327636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ultant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828800"/>
            <a:ext cx="457200" cy="3733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43200" y="4724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17220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09:23:00Z</dcterms:created>
  <dc:creator>alexh</dc:creator>
  <dc:description/>
  <dc:language>en-US</dc:language>
  <cp:lastModifiedBy>mum</cp:lastModifiedBy>
  <cp:lastPrinted>2001-01-30T14:36:23Z</cp:lastPrinted>
  <dcterms:modified xsi:type="dcterms:W3CDTF">2007-01-24T21:34:04Z</dcterms:modified>
  <cp:revision>61</cp:revision>
  <dc:subject/>
  <dc:title>No Slide Title</dc:title>
</cp:coreProperties>
</file>